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433-6181-475B-BC40-7423C3B6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019-3073-4A8F-9CA4-C7BF1634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F80-74BE-4033-93AF-6DB6CE55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BA7-64FA-466D-8656-183D565D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D5F-FADE-4BEA-BB28-D2357631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365-6DAF-4373-9806-4A90E893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88D-527D-4217-8B97-E0263481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0BC-9883-40B2-BCAE-48876D55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45E-352F-4045-B0ED-572EDE12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81B-2ED2-4AC0-BB74-F5DBD71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D61-4A6C-434B-B09D-3530203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D2A-0170-45B8-B6D5-3819B5D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58E2-A724-411C-A7E0-78ABEA2872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D24F-5CBB-4FFD-8320-130CCD3C0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DFBC-D287-40E0-BCB9-867F2A2D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operation and Collaboration</a:t>
            </a:r>
            <a:br>
              <a:rPr sz="2800"/>
            </a:b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409D-0662-47F7-AA61-9D3D5184A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ILRI / ICARDA / ICRAF / IWMI / CIMM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EIAR,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Addis Ababa, Bahir Dar, Arba Minch, Mekele Univers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 – Farm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Ga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DCF7-BF39-41D3-87EE-0947A92B0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C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Other regional research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s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AGP etc. ATA,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6DF8-6129-4564-8C03-F82AD442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46:02Z</dcterms:modified>
  <cp:revision>79</cp:revision>
  <dc:subject/>
  <dc:title>PowerPoint Presentation</dc:title>
</cp:coreProperties>
</file>